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F66-1130-40FD-901D-7829B903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819A-8B8A-4553-AF08-AFD93152C7D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3D30-3EDC-4120-BAFF-41F2182A6E7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622-9728-447B-975D-745E9267F1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007-7E36-4E5C-9021-B5CD2394A0D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5091-93E9-4C23-9302-6CFB9FD13A8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BC77-E9B4-4880-BD21-333FCE2E670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15F-EAD8-434A-ADBF-6B260D11F7E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011-9424-4A22-B672-7EED5D8BD9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736C-38CF-482B-A0DC-5CF2130B83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01F3-DFA6-4C5A-840B-3F4732F69E4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766-018F-4F6D-AEC3-43F8D56B5A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F54-3C99-4083-9F93-A44FCD6303E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145-9DAD-4E0F-9A02-993995C19D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F1A-B281-4DBD-8667-C9A0274F243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7E8-2BD3-4807-BA73-CBF0845AB57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EC1-A66B-437A-8305-37E9A481F47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1A8-730F-4F35-89E1-2AF6B563C2D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BE9-19E9-4BAF-AD16-D2A26F7C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A18-8931-4746-BE36-CCD420D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C2-1D47-499F-9291-E5F4FB1D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154-67C3-4069-9E8D-33A06459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B0E3-2D63-4CE8-B2AD-71A9837F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F14-16A0-4210-8429-175B17E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A66-FC15-40AC-AE05-36C2D68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15D9-652A-44D6-816E-E90100E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5263-1E0D-4657-843E-0EC2C38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4B1-7C10-46EB-9990-C995980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64CF-4064-4550-AD3A-1D5BC18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124-FADB-4831-9107-41E1D0C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2386-968C-4510-AB0F-30105C0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5044-02CA-4B63-A82A-FECC6DF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4C48-62C9-414A-8D03-A9DC3EBF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F735-57CF-4F81-A0B0-16CF40F7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022-CA1B-436B-95B5-EEA98858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AE5-3B9C-4519-A421-A59E620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DF8-C944-4434-A0BD-1E32384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D2D-7641-4B25-9B06-07E62288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56A-7989-456D-9AAA-F6B95C2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B44-7B0B-493B-9319-CF1CA4C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9E1-082E-42B5-8EF6-F831A6B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670-2549-4202-98A9-BB9A505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09ED-CF32-414B-BB84-8382A60A8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4ED-E13A-4ADC-A302-D77FA0AAF74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egrating Metacognitive Strategy Instruction into Reader Response to Enhance Reading Comprehen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 - January 29, 20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vels of Metacognitive Awareness </a:t>
            </a:r>
            <a:r>
              <a:rPr b="0" lang="en-US" sz="2000" spc="-1" strike="noStrike">
                <a:solidFill>
                  <a:srgbClr val="320000"/>
                </a:solidFill>
                <a:latin typeface="Arial"/>
              </a:rPr>
              <a:t>(Perkins, 1992)</a:t>
            </a:r>
            <a:endParaRPr b="0" lang="en-US" sz="2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acit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lack awareness of their think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ware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know when meaning breaks down but no strategies to repair mea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rategic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know when meaning breaks down and uses strategies to fix mea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lective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reflect on reading and intentionally apply strategies not only when meaning is lost but also to deepen understa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, can we teach students to be reflective readers? YES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explicitly model what, how, and when a strategy is use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ass discussions, peer interactions, and coaching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s key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tegrate into subject matte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help transfer new learning to other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: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elf-regul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onitor and fix-up)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epend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coming more aware…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rst, model with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Esau Woo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NITORING: Introduce, explain, and defin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lso predicting, asking questions, making connections, visualizing, and summariz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try thinking aloud with a partner about your use of monitor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nd any other strategies you use to comprehend a new text):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C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Barren Moo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nking Aloud - Quick 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id you notic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kinds of reading/thinking strategies did you us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you find it difficult to think aloud in front of someone else? Why or why not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thinking aloud help increase your own understanding of the text? Why/how or why not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uld it help to have a “think-aloud plan” when modeling strategy use for studen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ight a “think-aloud plan” look li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e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handou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an example of thinking aloud about Monitoring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e each chapter of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Kelly &amp; Clausen-Grace book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other exampl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 thinking…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you will be asked to create a few of these script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your book activities and to share/try out your scripts in class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Other Considerations for Metacognitive Strategy Instruct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ing a supportive, positive, and caring learning enviro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 up your classroom libra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ing a classroom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reading and learning for enjoy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membering the important role a student’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motiv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lays in promoting their reading achievement - we’ll look more closely at this next wee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Benefits of Using the Metacognitive Teaching Framework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motes discuss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common langu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makes strategy use explici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routine to help students connect the range of reading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not text-depende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helps ALL readers comprehend bett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develops a bonded community of literacy learner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 Chapter 2 Books and Read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Laying the Foundation for the Metacognitive Frame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</a:t>
            </a:r>
            <a:br>
              <a:rPr sz="4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Louise Rosenblatt (1978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XT &gt; READER RESPONSE &gt; READ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Picture 5" descr="Picture 8"/>
          <p:cNvPicPr/>
          <p:nvPr/>
        </p:nvPicPr>
        <p:blipFill>
          <a:blip r:embed="rId2"/>
          <a:stretch/>
        </p:blipFill>
        <p:spPr>
          <a:xfrm>
            <a:off x="762120" y="3076560"/>
            <a:ext cx="7772400" cy="286704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 flipH="1">
            <a:off x="3429000" y="2514600"/>
            <a:ext cx="990720" cy="6858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5105520" y="2514600"/>
            <a:ext cx="1066680" cy="6858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0" name="Picture 4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 readers respond to more complicated texts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should b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wa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of their mistakes AND be able to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revise/correc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their understanding =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NITOR &amp; REPAI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ood readers have quick access to a variety of strategies to assist the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have a look at some example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The Princess and </a:t>
            </a:r>
            <a:br>
              <a:rPr sz="4400"/>
            </a:b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The Bowling Ball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by Jon Scieszka &amp; Lane Smith</a:t>
            </a:r>
            <a:br>
              <a:rPr sz="36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Excerpt from </a:t>
            </a:r>
            <a:br>
              <a:rPr sz="2800"/>
            </a:br>
            <a:r>
              <a:rPr b="0" i="1" lang="en-US" sz="2800" spc="-1" strike="noStrike">
                <a:solidFill>
                  <a:srgbClr val="320000"/>
                </a:solidFill>
                <a:latin typeface="Arial"/>
              </a:rPr>
              <a:t>The Stinky Cheese Man &amp; </a:t>
            </a:r>
            <a:br>
              <a:rPr sz="2800"/>
            </a:br>
            <a:r>
              <a:rPr b="0" i="1" lang="en-US" sz="2800" spc="-1" strike="noStrike">
                <a:solidFill>
                  <a:srgbClr val="320000"/>
                </a:solidFill>
                <a:latin typeface="Arial"/>
              </a:rPr>
              <a:t>Other Fairly Stupid Tales</a:t>
            </a: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The Princess and The Bowling Ball</a:t>
            </a:r>
            <a:br>
              <a:rPr sz="3600"/>
            </a:br>
            <a:r>
              <a:rPr b="0" i="1" lang="en-US" sz="2400" spc="-1" strike="noStrike">
                <a:solidFill>
                  <a:srgbClr val="320000"/>
                </a:solidFill>
                <a:latin typeface="Arial"/>
              </a:rPr>
              <a:t>(Tell what you are thinking as you listen/read along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edic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from the tit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aking Connec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after I read about the princess and the pe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What does a pea have to do with a bowling ball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Visualiz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”I felt like I was sleeping on a lump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s big a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bowling ball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ummariz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address and resolve my confusion - Somebody/Wanted/But/So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gnitive Apprenticeship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Just like good builders model how to construct strong house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 reading teachers model how to construct deep meaning from tex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t because comprehension and metacognition takes place in one’s head…we must make our thinking visible and explicit to model important comprehension process for oth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Defining Cognitive Strategies </a:t>
            </a:r>
            <a:br>
              <a:rPr sz="4400"/>
            </a:b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(Your Reading Toolbox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Be aware of mistakes and apply strategies to repair/revise understand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dic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ues from text &amp; background knowled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aking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ext-to-self, text-to-text, and text-to-wor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Question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asks ?’s and reads to clarify before, during, and after read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isualiz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senses to picture, smell, taste, or feel something in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ummariz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the main idea and supporting details from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etacognitio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Cogni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Think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etacogni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Thinking about think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 a reading contex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Thinking about the goals, tasks, and strategies that will help you comprehend more deeply as you rea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09:43Z</dcterms:created>
  <dc:creator>Julie Coiro</dc:creator>
  <dc:description/>
  <dc:language>en-US</dc:language>
  <cp:lastModifiedBy>Julie Coiro</cp:lastModifiedBy>
  <dcterms:modified xsi:type="dcterms:W3CDTF">2009-10-19T13:38:45Z</dcterms:modified>
  <cp:revision>60</cp:revision>
  <dc:subject/>
  <dc:title>Metacognitive Strategy Instruction to Enhance Reading Comprehension</dc:title>
</cp:coreProperties>
</file>